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F617-1ABC-48DD-A4FF-C5ADE50C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45F7-5135-4F8C-B2E2-4FAAF055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68D3A-EBF2-4617-8F8C-D287F116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9315C-AC8B-4E73-86CA-3FA3BD31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468E5-F45C-4311-B4D9-12D245D7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87FF4-9D9F-4AB7-9FB1-AA63FE59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A302E-CC28-4329-A5A1-9913327D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F29C8-0D28-4AED-9410-A41964C0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B6F03-227C-4425-9D6D-1D65DB6E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A97BA-01DE-47EA-BDF5-2181DEC2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38131-CFE9-45C4-8E2C-9CCD2F94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3791E2-EB03-49AC-814B-AB0E36A61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DB3E-2A85-4A8B-9AF2-9547933D3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C553A-F6D7-4782-A059-1787DE18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7AD39-B0BA-44D1-8B40-C7619792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44ED0D-BDBD-4D03-ADF8-0644FE44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75E50-A4A3-4FAF-85E9-B25B5D9E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674C0-B630-47C5-BB0C-F1B69B7C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2A47E-FABC-4182-A63F-5EA0540A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DA1704-ADCA-4D21-9824-94DBB9DC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BB9EB-3F2B-4C9F-B25A-8B49F855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2634E-2B6A-4D15-8EA7-0072647B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A6E06F-1CCC-4C33-B9E8-3273E0C7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D081-F7C7-47E7-9D0F-B768C4E84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1DDA9-E486-4D3F-811D-2E489CD02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0B615-E203-415F-AE47-8490A9AAE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E9BFA-1E7B-47B0-AE32-6B431459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1DD7F-0E1A-4C43-8572-F2817322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3DDB8-F273-401B-85A9-0E6763A8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A6C00-5486-4025-A562-834D52F7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CD197-495A-414A-9469-C5879623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DF735-9B0B-487A-968D-6612A3BE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33A4F-2C53-4F06-9FA9-6FD4F63D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CAD62-7574-4E05-AE63-93BC9DC7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2F27-189E-44BF-AC44-6C06657E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DC7BD-99A9-47AC-86EA-EF84968A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51BAB-E667-494C-B615-69C18FC6D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65940-BFCD-49A9-9E78-228062376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FE0CB-BFCE-44F3-8498-8274022FA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36531E-6068-4AAE-B6BD-F3FABD54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14391C-7E5F-4BF6-8389-EE691F02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C12EB3-D9EE-4412-BFCB-5A99E388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B8560-40F2-4F9F-B217-C15DAFF4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B70701-6632-4B27-B26C-33DDBFDF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09418A-512A-4E46-B2A7-102577CE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BF8D-0190-43FA-8130-749CE57A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00EC52-BF22-488F-B74F-A060B0DF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7F4F65-E3E7-4125-8338-37D72C71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18691A-F5F6-485B-B23E-E898898F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DD168-8093-447D-AF75-593EE169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E870A-48CF-41A9-A979-85857674D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A1EC50-A121-4B50-A14B-A57E0BF5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F11AD2-6C97-4C6F-8AB4-7AC49726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2E445D-59C5-491A-BFBB-977D6DAE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37BDA5-F91C-497B-B842-411B6C75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AE8002-951C-4369-9AC0-6363BC7F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1474-D260-4902-98E0-EA046ACB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588F64-50BE-492E-8F57-8EEF218F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1CB0DC-2350-4E35-9541-963016FA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A72820-44DF-4772-BBD8-9CC94E5B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A72E82-BD24-48B4-962B-4E552BA8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06413D-D503-4D70-9F56-F56C1B29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5F92D0-562C-4A94-B8D8-67F3017F0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E87D3E-5949-43D3-95E1-84B2A563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63B69D-5F6F-4B60-9DDB-A8FB23FAE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F6E3C7-A20A-400F-9E61-02488496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10D3D4-D68A-43A3-BC29-019E4E78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3FCD-7F54-478D-B1EC-57C00125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180D1E-B9BB-4FB5-9B96-8D3CF817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309141-AB62-42B3-AC9C-C17AAD0E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2FF580-A77A-4D87-81FD-FC931D62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19112C-FBC1-41D2-9EFE-05BB3253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47E04E-F35A-4457-A0C4-5307A3EA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D872AA-AA60-4E5C-8084-059D9ADD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2CE09F-BECA-4BC2-BEB3-10A16403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B29193-DCC2-4C26-A8CA-40018911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A0785E-E376-432C-9A54-0B1D5D9B2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46F40E-7552-46C9-AEB8-9C36AEC5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A984-AE40-4575-8719-17E32343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4C86C3-97F7-4419-9D00-53A09AA1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016543-683E-4EDD-9688-F79C772D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2CEA9D-7302-4C53-97CD-1D529154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B8E072-8D16-4432-8542-C8ACB442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428F0D-7FBC-4BAA-9F31-CAE65C14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39725F-ACE8-4B2D-8F3B-1BC9962C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9CB2BC-0734-4DD4-9EC9-6D07E1A3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6D2961-B4DC-4A75-8893-4B264112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E144EA-915C-41C5-B9A2-D208681F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6044AE-6CCD-4FAD-AD8C-58B709213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1534-7B9F-4309-8672-08CEB628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81E16F-21FD-43AC-82A4-6FB84E4B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598589-DE92-4C21-B250-24DCC0E9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05F0CE-435B-4AB5-97B7-814ACC16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CF7D2A-CB40-4C10-A3C7-972F266F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8DC4E4-4E58-4F6B-AAD4-B0D67C06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D60978-C74E-4E23-8335-5F74B161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623154-021C-4A45-B41C-2ACC08BD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A0797B-7B00-4C1C-A7CF-EC1494BA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DF5018-7DD2-401C-A1F8-945663D0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344D65-9C5A-4BFD-A57C-66B71548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622C-9490-4E98-8376-FA22C5F7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7D80F9-0BC9-4240-AFEA-01F1EF3D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304338-0EFB-496A-B5BE-3B7D387D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C14449-8246-4E49-B466-4D3BD0A21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D7D0A1-0076-4F18-908E-BD309ED62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9B0F94-4CB6-4B5A-8C4C-C5023DC7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C0AA1F-1AA3-4749-AEFB-2E129E98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CE7BE5-6385-4005-B153-5958A221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6D51CF-80D2-4BC4-A3CA-ED3BB60E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DC90F4-3B0B-4629-9348-0AD771E3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DC1B05-29A8-4627-B2A7-256D3CE3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4FFB-4703-4676-AEEE-052F26BC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559F-26EE-4473-A29E-896E08F8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12E83B-3542-4DA3-85D1-9BECACDB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61630D-6691-4B85-98CD-AFA98196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B97C21-429B-49DF-8817-0FACE136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196395-C6C5-452C-A5B5-F065B232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450917-E09D-498E-A7D1-FE0683FAB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6A37A5-EDAF-44F8-998C-E945DB09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A7019D-A1E0-468E-9E38-96D9974D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40AD0B-23D3-424C-BCE3-D475F516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31066C-CBA5-4CC6-8463-1ACC1263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70408F-FDAA-4580-98A1-BB2F51EF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58F3-4AC0-4D66-89B7-0CBA1609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16975D-397A-447B-A1F7-8254485F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D2D8DB-6193-4685-9EDD-384BE7EA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A26024-BC08-4118-B034-8ACE3CAA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7E7248-9914-4161-94C6-E7068DEB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E52156-B168-4935-BBB8-6356B26C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A59896-4974-41A5-BACB-A9488833E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1DBC6C-6E25-42EF-B0B3-F2CE4EB9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192B9A-4B80-40AA-85ED-A79FF705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FA38DE-79BD-4E5A-A3DF-2C239CAF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A27A40-BA02-4B38-A07C-BE8C51D2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CB3C-A55D-490E-AF15-42B4E1AE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736895-AAC7-4CA2-8F84-DE2F316D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D17238-E7BB-45EE-B84B-6D66DA36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4239B2-46D8-47A2-AB7B-6FF852D2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20F272-8A49-498D-B7B2-8D566CE1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2C9646-5FA0-4CAA-8FA5-9EE65BE2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FD09A2-CB05-468B-B3AF-5DD39CA1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FF4E8F-D354-4BB5-8F2C-85F5CD9F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6F0D3E-2329-4117-B69A-6DAA59DB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D864A1-0951-4D61-966B-7B2462AE2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A94A12-8063-4515-B037-6461836E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5C48-C9A4-4651-B774-9B1750C6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12B009-2A5E-4703-BEC4-9F76073F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15AB26-D1C7-4FA3-921B-E8264BE4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5D965E-EA0F-4EC9-B97D-0A92ABBD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2DB645-C431-4C79-85F6-F4C0BDA7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92A9C7-7F72-4BB4-B07A-162A6E52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B832CB-887A-4CF0-87D3-A7F7CF40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055474-7D7B-416A-B082-EFCECCDF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7BAA99-102A-4AB6-A3B9-7FA7BF65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04AA51-E05F-4B6D-8A4B-464657CA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853FAB-332C-43BF-9580-859BBB59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D53B-8E7D-4E5C-A5F7-209ACA37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882C0F-BCA7-491B-B33B-F238F0D41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561978-3CB4-47D2-A070-4F0A0550A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AE52D5-8202-4664-991C-8E149760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3AD8BD-A333-4FAA-BEA8-299FDE26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1855C2-B3F5-4928-AA17-D02379B4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E29E54-188B-4BAA-BB6F-E4D671BF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71BEAC-C079-4CA4-A958-0D36EE6D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D33979-B2D5-4488-84B1-5629B8C0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3CE6B6-8E76-4B95-B096-EDA17B8C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0C2CAF-E1A2-4D63-88A4-CFAB2966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AA17A-F53D-463F-AD90-45CB601B8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B3E29D-0139-4AD0-BCFB-8B91C13E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E620D7-1239-468A-8AF0-EC551600C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54D561-4C23-448E-A6BF-F4AA2ED87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A66D36-61DD-4F0D-A967-4D0FE156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F2BE6B-B0B9-4C83-9659-A8A77244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34806D-2E7A-42F9-8E4B-6A857FD9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2E46DA-D30B-4763-ACF0-EB97394B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695490-2CFB-48ED-8C68-48674601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CC9344-C813-464D-9389-100873D2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A00A7B-6783-46C5-ADB5-5E2B7F36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847E1-248A-4D34-B25D-AF0836D0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A374E8-3DD3-44E3-9496-8E217B24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48919E-864C-4A8D-A9C8-37B2AC5A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191D9B-EC67-4D32-A99D-4F03194D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8D013B-E4F3-47CB-B443-23984E76C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79BC73-21F2-4484-BD67-D6479C62F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1883A0-DFC2-4756-A718-8BEFE761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D6E523-AF69-475E-8AAD-B06E2325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292833-894D-4C35-9F50-6029D4FA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CB1096-89C7-4479-BFFE-4757BD04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BFB616-C335-4957-8DEA-CD284325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68022-C9E4-46BE-85B0-025979BF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3BF57A-D2A5-46D5-B931-1DEF6982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F17EF3-70DB-44D1-A634-5E6BFBBF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A44087-0920-4B78-8251-BB56F242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E7288F-0D54-4125-9BDD-CD2E07FF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6DC2FB-A71A-4B21-8819-60F1195D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A78CDF-38C7-4A05-BCDC-D3436CA1D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746CDE-4BDE-4FDE-A573-931E01EAE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B03206-6EA1-46C1-A6DE-4A1F51CD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D9CE16-D983-4650-8B3E-F8FF7E78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C9498F-442C-4CE2-BC01-BE8047E8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D2092-35D2-490A-9265-25886F95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784195-F045-48A2-8F79-07679946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1A28DA-5B75-4102-B99C-2AB8D87A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E06E99-3F77-4F07-8503-23268AB5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2668B3-CAB4-4797-B5D2-268F9651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1A00E5-C743-4708-B665-7CBF4172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DF9DBD-4037-413B-A309-5E069430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E5C82A-D449-4138-8AA7-F424651A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68D3CA-4379-4120-99B7-1E1FE6776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B098A1-E570-4DC3-8720-7BF96C818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90DCAB-E1A3-4E78-A375-D18F68A9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9CDFB-40BB-434D-A29F-610E7CA5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C02570-02A9-4524-8E57-F46BBFC7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91C6A0-DC03-4E6C-80A1-D3A69494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52711CC-8095-430F-A331-0CFFF233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AD2674-93E0-423B-9472-8F0A6EEB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55335F-B601-49B1-B89A-6891975A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794BDF-D929-494D-9913-0AE1E679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9B284B-608E-4AEC-9957-BB245EE2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D97380A-4392-419A-8011-7941F8B8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0B4F5C-8C28-4B0C-BAFF-E371B53C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A377C5-D346-4535-A552-D9BA79DA3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8691-AD98-493F-8B56-AFD86A8B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642E8-AC66-489E-B79E-1091B73E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3DA9AD-7BBB-4EC5-AB92-FB203372E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1DDF2C-77E4-4645-B0FA-F954804E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0459CE-8246-4484-B8A6-4EEA5FB9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A48550-F0D8-4507-BB50-E9531AD8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FF55B22-EBDF-4BF0-83D1-98E5F951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BCB3BA-6E3F-4A0A-BD97-1285C7B0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C9EA1D-FAE8-4FFB-AFC6-18B6CAEA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B8DE34-1F07-4F81-82E1-6D18407C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89D62A4-83CD-4D97-B7B1-51147174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8010E0-2173-412C-9250-F59D8EBE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701D6-1DAF-4FCC-B1E9-2B746438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D77089-B637-4BA0-B483-C0D86FFA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105B62-A8C4-48D8-9ACE-98A35A6D8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952C342-8167-4C85-B0EC-E527C2495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9ECC41-FCAB-4E01-8582-4AF870E5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5210516-ED26-433A-AACE-8ADCCC59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FEF004-FA33-4F0F-890D-23319CC4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338F62-10FD-4B76-8FD8-9C0006F0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2869FF5-5005-481A-BACF-DEC19D62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8218EDE-7FD8-4364-B97A-D78FDE47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A8BEAF-63A0-4D15-95A2-AEEDB9AC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39276-8F84-4605-9138-B8F69E84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E9D821-B7AE-4C17-BCCE-278A92A2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670086-2BA0-4619-ACB4-444BADA9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C9F0FD6-C244-4678-A854-FDF6ACCC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307D0DA-429F-4343-8EA5-439D5620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24E88B-D708-41F0-A91B-0D16B858D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2CB7D-A830-4F0C-853D-BF506017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32A7C-4F19-497A-BD59-E072A2EB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56BC1-00DC-44B8-AAC6-F00337C4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52444-C3E5-4061-8FFE-BE48FB6C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E137D-E4C5-4D34-AD77-02ED349E4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946A6-75BF-4993-A09F-A6090230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97510-E583-4F6D-BDFC-715DAB7D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A0CE-C1C6-48AA-8FEA-C2E3DAF6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8D86A-ABB7-4CC1-BF7D-A4BEC5FB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F5EF1-2F31-47D0-90C0-706D6A9C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69D83-3344-4748-86EC-53E0EA27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6C91A-ABA0-434D-9CF0-A8C207A0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0CDAC-ECEA-49DC-8467-999B82B6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7D7E5-C752-4A25-B90E-97A9560C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6F1F3-1DE1-4679-8368-A163E9AE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D6259-A2FF-443D-A73B-14CB1AFED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C1FDA-1860-4F1F-8F26-767EDFF0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C04BD-252C-42FA-BEE3-F2D9446F1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C8B8-060D-4B65-8CE1-DF5B2A55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C55BF-EF68-4FA7-A782-DF2F48F7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1DF43-9934-4B3D-A16F-ADDBBEF7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554A2-418A-47D7-B7B9-D60D82AE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B8059-EB16-428F-82F1-0D8D4916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EA5A1-8182-4D77-A720-C4116BA0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C4595-C591-4BFE-A069-C5B18053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8BDC9-D721-4550-8242-1C5EF7E0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DFB1E-F947-473A-BA1E-109125C9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C85E8-FAE3-477F-8826-F91E4EB4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C9758-BFA9-41E5-8AE4-17F98B7FB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D8A9-907C-4CD0-8503-136B6AFA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FCB49-1970-41F9-BF6F-3E33E2315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E63EC-A0BD-445A-B64E-F70F373D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2AF1E-86BA-414F-91A9-E6AA1CDD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70988-8EB9-426F-A5D7-FFBA8DD8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02AD4-EED6-4522-9430-3C84CF72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94335-3A5F-4ED8-B46E-4AD3E503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A03A7-55A2-4FC8-A21D-86962839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34713-5F58-4F2C-8E6E-6CA20B70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02398-9AA2-433A-85BD-44937D31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8DECE-1CD0-4234-A778-0B40052A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FE59-F1BB-4167-8CA2-B6FD0039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98E85-C915-44C5-A0D8-109DDC0B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A1445-FAFD-4400-BB99-6E2D262D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03407-B290-4912-9118-855D1EEA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63F4B-82D4-4181-9FAE-6EDDA7156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DBC2E-BE6A-40C1-BBC7-B1F0C146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BBB9F-9DB4-46E7-B282-FA495A03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1AF98-81BB-4B43-82BB-4B5D17FF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6FCED-7A8F-4E3F-9A60-B4885FAE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5E168-B0FE-4025-BBA6-15392610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9EF32-CFE4-4903-82AF-5B1CE83B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6D5F-7C1A-4F03-981B-9BC46C76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A92F2-94C7-442D-91C7-98A5C93D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D8D8E-048A-4534-849D-996AD1C0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D283F-A79C-4173-94E7-BA70F9C9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ABBDC-B5C0-4C73-8DA8-EB320044D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D9D08-DA7C-4330-A123-721C8B0D1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67BE6-D156-43FA-AD1F-09860DDA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4028C-6706-4131-9D18-98646655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2EDE5-8026-47FE-9623-891075E8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767A5-0B3D-4D4F-968B-72C765A8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EA92C-B940-4603-B352-5F761A2E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78C7-555D-4335-8B0B-49E53EAB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6ADA8-175A-4E23-8685-5A45115F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836AE-AE5E-46B6-958B-A528AB0E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B076A-CBA5-4AF5-96A1-CB1C9429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090B8-94FD-4041-B2D4-2796E62D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165B7-116F-47E8-9CAE-91FEBEF7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855B7-61C3-4A63-AE41-9E614D6F2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CCEF8-B157-4684-93EA-B201EC972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64DCF-7D3A-42EC-8D6F-3F34E1DEE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616A8-56A0-4C9F-A12C-B917A99A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0C0A5-ED57-4C23-AA93-219FD48D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7E7E-C096-4666-A411-72BFE9000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BA7A-5521-4A2B-BC64-7DAEFFAEB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AEB7-0025-462B-8EB6-13F9715F5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4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D0B9-606B-4684-BA49-F9BA5C726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8FC4-B288-467B-903B-824C6E10E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96A7-7F1C-43A8-A0AC-231506A14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4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9D79-5D04-46C2-B063-E3228E80B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AE56-FD80-4DDE-A661-0AAB0E25C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17D3-B31A-442C-96F8-76D106659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54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62CF-D418-464D-89D0-0777059B1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D29A-6C13-4DF8-8DFD-615EEB03D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5336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C54E-FE40-4A53-B603-0269C2324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BB65-6596-4B76-BCAD-FDE293378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DAE6-E068-4680-952F-881444387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7FB8-BCA4-4518-91E1-76B91CEA1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1D52-A5C6-4A4F-990A-113F97D7B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EFB5-8680-43D6-8072-3239478AF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097C-59C4-4B72-A96B-1702C6171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07C8-1DBD-4524-9B26-3636FD5B3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124F-38E0-482A-827A-C63DBEC0E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2E61-601D-47A3-A50F-331B7F4C0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17CB-BC6D-4F1A-88AE-465F95A4E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5336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EBFE-6EC3-4BDE-AAA0-942CF8B9D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0E0B-13AC-4E75-9EA2-C462CED1C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F119-25C1-4C11-95D8-A3AD877E3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5336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14EB-7BCC-4DBA-BC48-216017AB0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FF18-34B5-4BEA-ACA7-7D083C49C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1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1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1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1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2.1: Linear Functions and Equation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 14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 exact and approximat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graph of a linear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 table of values for a linear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data with a linear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Exact and Approximate Model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ct models correspond with the data exa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models can be used to estimate the general tr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3" name=""/>
          <p:cNvGraphicFramePr/>
          <p:nvPr/>
        </p:nvGraphicFramePr>
        <p:xfrm>
          <a:off x="1600200" y="4114800"/>
          <a:ext cx="2200320" cy="225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4114800"/>
                    <a:ext cx="220032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5" name=""/>
          <p:cNvGraphicFramePr/>
          <p:nvPr/>
        </p:nvGraphicFramePr>
        <p:xfrm>
          <a:off x="5334120" y="3581280"/>
          <a:ext cx="2200320" cy="2257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4120" y="3581280"/>
                    <a:ext cx="220032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Representations of linear functions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f(x)=ax+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is the s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is the y-inter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(constant rate of change)x+ (initial amou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9" name=""/>
          <p:cNvGraphicFramePr/>
          <p:nvPr/>
        </p:nvGraphicFramePr>
        <p:xfrm>
          <a:off x="5791320" y="2590920"/>
          <a:ext cx="2943000" cy="30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2590920"/>
                    <a:ext cx="294300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Finding slope and y-intercep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graph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10x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3" name=""/>
          <p:cNvGraphicFramePr/>
          <p:nvPr/>
        </p:nvGraphicFramePr>
        <p:xfrm>
          <a:off x="3962520" y="1676520"/>
          <a:ext cx="2943000" cy="30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2520" y="1676520"/>
                    <a:ext cx="294300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Finding a linear function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572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tart ten miles from home, and then drive 50 mph hour.  Write a function that shows this sit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function that passes through (2, 4) and (3, 1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function for this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7" name=""/>
          <p:cNvGraphicFramePr/>
          <p:nvPr/>
        </p:nvGraphicFramePr>
        <p:xfrm>
          <a:off x="5243400" y="2286000"/>
          <a:ext cx="3638520" cy="373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43400" y="2286000"/>
                    <a:ext cx="363852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Your assignmen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82-87 # 2-10 even, 24, 30, 32, 34, 42-52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8:51:38Z</dcterms:created>
  <dc:creator>nuhs</dc:creator>
  <dc:description/>
  <dc:language>en-US</dc:language>
  <cp:lastModifiedBy>nuhs</cp:lastModifiedBy>
  <dcterms:modified xsi:type="dcterms:W3CDTF">2008-01-14T20:05:04Z</dcterms:modified>
  <cp:revision>4</cp:revision>
  <dc:subject/>
  <dc:title>Slide 1</dc:title>
</cp:coreProperties>
</file>